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47204"/>
        <c:axId val="40196312"/>
      </c:barChart>
      <c:catAx>
        <c:axId val="23147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96312"/>
        <c:crosses val="autoZero"/>
        <c:auto val="1"/>
        <c:lblAlgn val="ctr"/>
        <c:lblOffset val="100"/>
        <c:noMultiLvlLbl val="0"/>
      </c:catAx>
      <c:valAx>
        <c:axId val="40196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47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603-63AE-4D28-9594-7C14C462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311-352C-4035-9BBC-0BEE86B2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570-431C-4707-863A-90C205CC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996-11FD-4B26-8D94-FE6088D2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A57-1DA3-4A20-B731-6637259B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CEE-B0BB-4A06-BC6B-117D7403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065-3ADB-4F3E-9086-53D59413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C50-5CD3-46E3-A559-E077C436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AB8-2591-43F0-B437-D3AFB664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6ED-E423-47EA-8CCF-221240E3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A26-0238-47F7-8E87-DDF1E9E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1C5-687E-4F8C-A841-84235211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0C131-3780-49C3-A426-F1F387DAA8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