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73325"/>
        <c:axId val="69524904"/>
      </c:barChart>
      <c:catAx>
        <c:axId val="60973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24904"/>
        <c:crosses val="autoZero"/>
        <c:auto val="1"/>
        <c:lblAlgn val="ctr"/>
        <c:lblOffset val="100"/>
        <c:noMultiLvlLbl val="0"/>
      </c:catAx>
      <c:valAx>
        <c:axId val="69524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73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CDA-AEF6-46C8-A61F-D9A27D6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814-E1E9-4E17-B2B2-22A34759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101-EEEE-489B-BF24-ACD09378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D12-5F0D-4A0A-889F-AE28007E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DAB-8C71-4C25-AEE5-2EE076E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973-1B44-4E03-90F6-C26DEF59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2EF-72D2-4668-8BF6-6681637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713-5623-4D61-B2F1-C32A80D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0A7-83C3-4E19-9F97-85493C3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F58-5CB2-4BD7-8474-6895EB0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8B5-1D29-4F0B-A9DE-987095F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F22-4145-462F-AC86-6D8609A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D1006-CC00-4EF6-BF1D-FF8714195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