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7642"/>
        <c:axId val="93617131"/>
      </c:barChart>
      <c:catAx>
        <c:axId val="4737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17131"/>
        <c:crosses val="autoZero"/>
        <c:auto val="1"/>
        <c:lblAlgn val="ctr"/>
        <c:lblOffset val="100"/>
        <c:noMultiLvlLbl val="0"/>
      </c:catAx>
      <c:valAx>
        <c:axId val="93617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7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76B-664F-4FD7-A1B0-E8CDB621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24F-F1F6-45CF-8EEA-F8DE41E8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B05-1D68-4814-AC33-A303F528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57B-FC6C-47A3-8B20-301D1275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BE4-0D5E-4063-820C-BF22C1CF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9A4-370E-4C4F-A8B0-3624025C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A5E-3499-43C5-BDC4-D5840EE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EAE-6E30-4798-948F-6C2A015F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662-1A4A-471C-9A66-5ADCBA3D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7BE-ED5E-4224-BA6C-EC1A71E5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6CE-3B1A-4D54-AE01-A69A9684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2D6-400D-4FC1-BE2B-9E39CEFA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6ED29-F2AD-46B0-B9A4-31200FAFED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