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50103"/>
        <c:axId val="41199617"/>
      </c:barChart>
      <c:catAx>
        <c:axId val="24550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99617"/>
        <c:crosses val="autoZero"/>
        <c:auto val="1"/>
        <c:lblAlgn val="ctr"/>
        <c:lblOffset val="100"/>
        <c:noMultiLvlLbl val="0"/>
      </c:catAx>
      <c:valAx>
        <c:axId val="41199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50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475-CC12-4F37-8964-F8FD6A0A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E7A-1B9F-432D-9473-132FC092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D5D-F21E-4B82-AD0D-49A61E5A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430-C03E-4129-9F94-3DC44299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BFD-7ABE-4E5B-BDAD-54D600A3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02E-7D8B-49CB-A530-E73C2AE7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181-E7F6-4C95-A1C9-C4D24756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DA3-3584-4D70-8448-8CE5CA0A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1C2-51A8-46A8-9875-449FB5DA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FBA-F257-4B7E-8969-B1560E6C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9E0-EF22-4B07-AA7F-1467BE7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539-AE52-4860-B54E-1B67130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E0931-5759-4C87-BADF-69CEC4599C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