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02316"/>
        <c:axId val="52224604"/>
      </c:barChart>
      <c:catAx>
        <c:axId val="1490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4604"/>
        <c:crosses val="autoZero"/>
        <c:auto val="1"/>
        <c:lblAlgn val="ctr"/>
        <c:lblOffset val="100"/>
        <c:noMultiLvlLbl val="0"/>
      </c:catAx>
      <c:valAx>
        <c:axId val="52224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418-5C70-4720-A3E6-60558F98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958-F45D-4C1F-9004-F8C5CD3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2D9-DDD8-4D09-B167-C462D1A4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D68-C21F-43D7-9ADA-1D736F32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A44-113B-42EA-8BC9-3C1CAAEE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4C5-AE59-42B8-B895-30C4C0F7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63C-FF7C-4401-9CFD-753D270D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DE7-7F0A-48C7-BE9B-D15849C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5A2-8ADD-4DDC-BAD6-A356444B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9FF-AFC0-4883-B8DA-D710188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531-C30E-4B49-B5FD-9858856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2C8-FFD6-447E-B463-ADE1D51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645FB-1B80-4FCB-8FC8-0097EFBAB7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