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8396"/>
        <c:axId val="44118757"/>
      </c:barChart>
      <c:catAx>
        <c:axId val="32728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8757"/>
        <c:crosses val="autoZero"/>
        <c:auto val="1"/>
        <c:lblAlgn val="ctr"/>
        <c:lblOffset val="100"/>
        <c:noMultiLvlLbl val="0"/>
      </c:catAx>
      <c:valAx>
        <c:axId val="44118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8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CA0-9B9F-4A4C-A6AA-2DD9C0EE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192-553F-484A-BAE7-970438C1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7E0-893D-43CB-8DDC-620D6CCC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9A3-1F0C-4575-B228-C64CB1DA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7F2-267E-4D73-9085-3C66034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668-197E-4AD5-BC2A-A413165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092-E004-477A-8775-05A9C85F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C6C-37D4-46F9-BADD-D89C286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0CF-D8D1-41E3-BAA4-F9E55052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64C-A12B-4A34-8CAD-22C9B8E3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6B4-838E-4AB2-BEDA-A052E36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9A7-DA3B-4DC5-96A1-7ADECDA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2A7D9-9A32-43A2-91CD-AA75499150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