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59844"/>
        <c:axId val="43240378"/>
      </c:barChart>
      <c:catAx>
        <c:axId val="25459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40378"/>
        <c:crosses val="autoZero"/>
        <c:auto val="1"/>
        <c:lblAlgn val="ctr"/>
        <c:lblOffset val="100"/>
        <c:noMultiLvlLbl val="0"/>
      </c:catAx>
      <c:valAx>
        <c:axId val="43240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59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0AE-A85A-43E1-98AC-4415851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BB8-EB71-4D68-8A54-81E2234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BA8-97ED-4F21-B7CA-407750CC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38C-9F3B-4E59-A317-50E195A5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92D-4AE8-4C7B-B4A9-B73E134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83C-DBBE-4CCB-8EB0-B7B0477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68B-FC9B-4EAE-846C-4000D5C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11B-D20A-4D67-81B0-6AC85521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D06-2615-4824-8ACD-7303E9B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3CA-878A-4F58-982E-3E94B9A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B4A-C62E-4D13-B374-FC7203C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312-5CBD-4E4E-9070-3577102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F133-F2F2-4823-98A6-2CAF90060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