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3225682"/>
        <c:axId val="94751647"/>
      </c:barChart>
      <c:catAx>
        <c:axId val="5322568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751647"/>
        <c:crosses val="autoZero"/>
        <c:auto val="1"/>
        <c:lblAlgn val="ctr"/>
        <c:lblOffset val="100"/>
        <c:noMultiLvlLbl val="0"/>
      </c:catAx>
      <c:valAx>
        <c:axId val="9475164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22568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AB288-E503-41A6-B23C-C1F645B20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5E8DB-5BFA-44F0-881B-54734BEC7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6BEDB-C8E0-4E6E-B26E-58D926FD1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9DE0C-63DA-4B0B-88B6-5BD787E42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831FD-48E5-48F6-B87E-148D37132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76F44-64E6-4A0D-9929-586607E40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CA40C-F0C9-4759-A7D3-C5273BFEA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23AD4-8CAF-4187-8A9E-B6C042416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B9272-E9D5-4AE5-8A11-E08EA8D17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B5F05-EE0E-424E-BD1F-9F17EB8FA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DFA88-21FA-4F9E-BD08-7A28138FB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496A9-B81E-496E-92F7-6C119B785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496DEC-2D5A-401C-B47F-4F44D69E5F4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