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70337"/>
        <c:axId val="92115931"/>
      </c:barChart>
      <c:catAx>
        <c:axId val="13070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15931"/>
        <c:crosses val="autoZero"/>
        <c:auto val="1"/>
        <c:lblAlgn val="ctr"/>
        <c:lblOffset val="100"/>
        <c:noMultiLvlLbl val="0"/>
      </c:catAx>
      <c:valAx>
        <c:axId val="92115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70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D5F-2F08-44BA-BD5B-A86D9765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C40-3347-40A9-BE53-CAC6B534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620-E8FC-44B6-945E-8846213E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052-A809-4338-9996-3A0FD3DC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0A3-69C8-4B63-A8ED-5AB1E93E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CC4-B511-4B4D-8C90-6954C7D2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DAA-70B9-47E9-8A17-B453537C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1BE-5C16-4A43-B6D4-47A2B00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15F-EF75-46BF-8CBC-A0EF188A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195-EC3E-4C0C-8374-A214E58F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41D-10FB-4592-86C0-A30D18FB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6F3-C00E-4812-951B-C3182CFC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FBBE7-5459-4F62-A128-EE7862FBAF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