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33775"/>
        <c:axId val="29746566"/>
      </c:barChart>
      <c:catAx>
        <c:axId val="27033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46566"/>
        <c:crosses val="autoZero"/>
        <c:auto val="1"/>
        <c:lblAlgn val="ctr"/>
        <c:lblOffset val="100"/>
        <c:noMultiLvlLbl val="0"/>
      </c:catAx>
      <c:valAx>
        <c:axId val="29746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33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952-05D6-4467-A36C-D3E721EC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771-A876-4100-97FD-B385F81A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BE6-3E5B-4CF8-9AC9-D6C16A6F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9DF-54BB-4D83-ADC4-6C85183A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526-BF4D-47B8-BD28-0F3A324D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1C5-F3AF-4B84-A795-47A0AC33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24F-C9A5-4712-A50D-99DAC549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72E-2383-4C2D-AC6F-84E17EEB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CD3-8185-4EF9-B162-E3C41FA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A37-A94D-4B40-87EC-0DB3B05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074-EB84-42E0-A4E7-441E77AB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209-5D55-46DB-A12B-30E22B1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5F4E8-9ADC-425C-A43C-3494AC9479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