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51936"/>
        <c:axId val="80979035"/>
      </c:barChart>
      <c:catAx>
        <c:axId val="4051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79035"/>
        <c:crosses val="autoZero"/>
        <c:auto val="1"/>
        <c:lblAlgn val="ctr"/>
        <c:lblOffset val="100"/>
        <c:noMultiLvlLbl val="0"/>
      </c:catAx>
      <c:valAx>
        <c:axId val="80979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1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456-BA1F-45AC-867E-01D759C5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D2D-6378-4EAF-BB20-C905E0E3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568-E447-406D-A2B2-AD148545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480-506B-44D3-A6AC-EB3953EC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FB6-1FC6-4456-82F1-F219CD73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DE4-5776-4C11-91DE-9BE83017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43B-406B-455F-A652-ADA01F4E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139-7F2B-417F-B433-00451042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387-AD51-40AE-8975-A1A616B6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45E-5FAF-4214-BAEC-BC6C09C6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3A8-5A85-470A-B4F5-A5852E9C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87B6-C82F-4D1E-85EA-91B83366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F9040-ACAD-4481-B8C8-6A164DD636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