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30011"/>
        <c:axId val="1721805"/>
      </c:barChart>
      <c:catAx>
        <c:axId val="83630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1805"/>
        <c:crosses val="autoZero"/>
        <c:auto val="1"/>
        <c:lblAlgn val="ctr"/>
        <c:lblOffset val="100"/>
        <c:noMultiLvlLbl val="0"/>
      </c:catAx>
      <c:valAx>
        <c:axId val="1721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30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08F2-1BDE-4E1D-9CC7-4FBCE65C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990-39AA-4580-87A9-D2CB0DBE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157-2FAD-4789-A873-6F03A4D5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AD4-8FCB-413E-9018-90DD5788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344-F965-47CB-8B12-10BB923D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1C0-2059-46CB-A0F4-1BBAFD7B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90A-9D2B-4B3B-9AC3-1D28F5BE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EDA-7DA9-4750-A3C2-0515775D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53C-7F02-403E-B399-0F2218D5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6AA-2CF8-4878-B181-A25A0839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E46-6E5F-44C1-B88B-0E7EDE93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8B6-FA02-45F9-974B-2A0F2B5D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73676-FA56-4B62-84C8-72320F81D6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