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90747"/>
        <c:axId val="93576870"/>
      </c:barChart>
      <c:catAx>
        <c:axId val="36490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6870"/>
        <c:crosses val="autoZero"/>
        <c:auto val="1"/>
        <c:lblAlgn val="ctr"/>
        <c:lblOffset val="100"/>
        <c:noMultiLvlLbl val="0"/>
      </c:catAx>
      <c:valAx>
        <c:axId val="93576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90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1FD-8C13-4B57-8888-16708E41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F47-5A9B-4C3D-BFBB-854CF51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A10-8295-47D4-A599-2AEEB51C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865-8621-4390-80D8-032C0C65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FAB-079E-4B02-A1A1-400E9D74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291-2B20-4FBB-A14A-E635467A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0AC-3576-4620-BDCD-C54D2D56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2C2-EE4E-41DF-93CD-15D34832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46D-70C8-49C4-9116-843B3BB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6A5-15C4-4920-9F7A-99FBC94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C27-5488-49B1-A048-D376925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929-FDB8-4E2C-B227-3C39E027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6D2E7-3949-4A51-8E82-BA454BB91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