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080460"/>
        <c:axId val="22978786"/>
      </c:barChart>
      <c:catAx>
        <c:axId val="970804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978786"/>
        <c:crosses val="autoZero"/>
        <c:auto val="1"/>
        <c:lblAlgn val="ctr"/>
        <c:lblOffset val="100"/>
        <c:noMultiLvlLbl val="0"/>
      </c:catAx>
      <c:valAx>
        <c:axId val="229787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0804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DB00-AFFF-4AB3-A880-CAEB38ADF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21FF-2330-415B-AEE8-C995920DA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6974-236F-4A99-A2A9-CFF170E13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1473-4A31-4623-AC63-0845B1EC8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E73F-3261-412D-9D89-A131E73C2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4C0D-C8E3-48BE-A398-DF7CA01EB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42F2-F549-4763-A37F-0AC7B8A43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9DA3-2CAA-495D-970B-22B3D1C51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D098-2045-4E66-8840-9F3FF5D97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EC74-FECF-44DC-96CD-C947516C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1BEB-B67A-4B39-8037-5D0459FB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6129-3933-4AFC-B388-02A707C1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AABC11-4620-4DF6-883D-1043E83CC78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