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53642"/>
        <c:axId val="9977126"/>
      </c:barChart>
      <c:catAx>
        <c:axId val="12453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7126"/>
        <c:crosses val="autoZero"/>
        <c:auto val="1"/>
        <c:lblAlgn val="ctr"/>
        <c:lblOffset val="100"/>
        <c:noMultiLvlLbl val="0"/>
      </c:catAx>
      <c:valAx>
        <c:axId val="9977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3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E19-67F6-46DE-99CB-88C66548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51D-FA7B-419D-8270-152E7D47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4BE-C0A7-4491-AD21-9964B181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F8B-691B-463D-BDFB-61D591F5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C36-4DC6-4C42-8F3E-F7ECA592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482-B194-48BD-BA49-FC15C8C2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8A4-2AB5-49C9-BF8F-59F1D14E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C34-84F5-4373-8FE3-68B1E2C1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2B3-B0EB-425D-822B-B33E2AB3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78D-DC99-4728-B7A3-58C98F1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C3A-1A90-4A51-8063-EFE4A0FD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32F-7157-4378-B7BB-D5C9DDF8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93762-9B24-4CC4-80F1-6CBE9544C4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