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10706"/>
        <c:axId val="6284911"/>
      </c:barChart>
      <c:catAx>
        <c:axId val="87510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4911"/>
        <c:crosses val="autoZero"/>
        <c:auto val="1"/>
        <c:lblAlgn val="ctr"/>
        <c:lblOffset val="100"/>
        <c:noMultiLvlLbl val="0"/>
      </c:catAx>
      <c:valAx>
        <c:axId val="6284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10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5FB-07AA-428B-8D67-907B85DF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E7B-1146-4C10-BFE4-0B1776AA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43C-1E88-4706-868D-4ECFD262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DF1-E1CA-47F4-89C6-122344F8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DBA-8EFA-4219-9D95-53CED96A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4E4-710C-4740-ABBE-E1F72CB1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528-E93B-4A56-AC5E-449DEAD1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3F4-B95E-40B5-A579-8A40776D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360-3784-41FB-946A-98D80D39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9FC-487E-4D75-A394-91342A75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D3B-00A5-4082-8B6F-5DD5D97F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692-E7A0-46BD-A6DE-58FFA917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EAE1C-728C-488A-8771-4483CC2FCF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