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60265"/>
        <c:axId val="16411218"/>
      </c:barChart>
      <c:catAx>
        <c:axId val="53260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1218"/>
        <c:crosses val="autoZero"/>
        <c:auto val="1"/>
        <c:lblAlgn val="ctr"/>
        <c:lblOffset val="100"/>
        <c:noMultiLvlLbl val="0"/>
      </c:catAx>
      <c:valAx>
        <c:axId val="16411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60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996-F97E-4F62-A2A5-6A37E69A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D74-63D2-41B3-A3C0-A8EA033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8FE-3DD9-43ED-AEEF-84E2547A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F95-49E9-4F14-A81F-10AAC2F9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FA2-BB91-42A2-B319-986082ED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9AE-6B5C-4754-B292-9A60C3F5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981-C192-4173-B1DA-7A03469C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9ED-1484-428D-8CAF-41636CB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421-DA0B-4B42-B5DA-CA96ABA5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C93-5377-415A-AE08-AE234A1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804-0FF0-4F36-B9F9-BDC9841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3AD-D99D-46E7-83DC-629AB72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13FF2-BD7A-4729-9FC6-150561DAC7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