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31056"/>
        <c:axId val="72688153"/>
      </c:barChart>
      <c:catAx>
        <c:axId val="57131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88153"/>
        <c:crosses val="autoZero"/>
        <c:auto val="1"/>
        <c:lblAlgn val="ctr"/>
        <c:lblOffset val="100"/>
        <c:noMultiLvlLbl val="0"/>
      </c:catAx>
      <c:valAx>
        <c:axId val="72688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31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53C-D24A-4BA8-B6E3-2B6F457C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7A2-6FB8-4310-8CD2-6D5431CE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895-F8AB-4B9D-AA8E-029E7C46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78C-8D40-4D61-91B9-793A9924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90A-AE58-4CD5-9AD9-BF245D39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320-8F31-4475-A5D2-5334B1F7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4F7-22B1-42B4-9EF0-2D927AFA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F3C-D51E-46F4-B447-4E1FE383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D56-B598-4D22-A3E4-B4FC6E00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9A7-E75E-4699-A852-26449985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A2F-FCD5-4236-9867-B3098412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509-D011-4B4B-B3BE-1B9FEAAC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5079E-4748-45BF-892A-A7F7C75A86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