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337179"/>
        <c:axId val="70409201"/>
      </c:barChart>
      <c:catAx>
        <c:axId val="543371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409201"/>
        <c:crosses val="autoZero"/>
        <c:auto val="1"/>
        <c:lblAlgn val="ctr"/>
        <c:lblOffset val="100"/>
        <c:noMultiLvlLbl val="0"/>
      </c:catAx>
      <c:valAx>
        <c:axId val="704092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3371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7353-3081-4C06-8DFB-B1306C187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E086-5C56-4FA9-ABC6-F985864EE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9852-117B-48E0-A850-7442E564B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0159-A620-43A1-BBE4-6F7CE23B8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013D-B4B3-4C93-A23D-9C5A80432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ED6B-AA7E-4336-8F44-7CA9F9BDC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09FA-6100-4524-A780-2FCE77064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9470-718D-48C3-AB5F-EC8B0D3B8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DF57-17EB-443B-A2B3-6047EB7E1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61E8-45B1-4275-BC0A-8F142945F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1373-58C5-449F-9778-68C03795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ED3A-B229-4B23-BE3D-A79C52143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E6A938-F875-4976-8750-91C5D51C3A8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