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49388"/>
        <c:axId val="34843944"/>
      </c:barChart>
      <c:catAx>
        <c:axId val="30349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43944"/>
        <c:crosses val="autoZero"/>
        <c:auto val="1"/>
        <c:lblAlgn val="ctr"/>
        <c:lblOffset val="100"/>
        <c:noMultiLvlLbl val="0"/>
      </c:catAx>
      <c:valAx>
        <c:axId val="34843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49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736-5BBC-44B3-8852-FDDA25B0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2BB-27EB-49EC-A37D-1DB61851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0E3-CB13-482D-BF96-C219B026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905-E546-461A-A964-EF76B0EE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32E-A9E0-448C-8DC7-59596286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016-E3D2-4C0B-A6CB-0E3513D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3BE-23A3-4B5E-918F-992B8576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10A-8AD5-40E3-9890-C7AB52F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1F3-49A9-409C-A4A2-9D54211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AA5-C0E7-41AC-8C4B-66CC426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E6E-0EB0-4C15-A0E8-81647C0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B0D-7576-4815-B602-F112051B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E70DB-BA20-4FEA-8B37-367175855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