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76268"/>
        <c:axId val="51724030"/>
      </c:barChart>
      <c:catAx>
        <c:axId val="47776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4030"/>
        <c:crosses val="autoZero"/>
        <c:auto val="1"/>
        <c:lblAlgn val="ctr"/>
        <c:lblOffset val="100"/>
        <c:noMultiLvlLbl val="0"/>
      </c:catAx>
      <c:valAx>
        <c:axId val="51724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6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416-8360-4E16-A47D-157F155E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762-62D3-4EE6-9139-3FCB1659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F69-763A-44C9-9F35-3DDEBA83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D8E-5003-482B-8697-154256AF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D54-F4E6-4A1C-8B6C-E0E08A6A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727-3ADF-4184-9CEB-2EC965A3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7F6-EB01-4A5E-8D2D-3E41864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B45-8BB9-4093-BAC7-05246B9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D94-B092-47EB-B663-B1C2DA2C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8A2-54D3-45BA-8F94-0926C52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265-C577-4779-92B0-0B0D02B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169-EDE5-4E37-AD55-473769D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9C600-269C-4338-9DA8-AE908DB99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