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65563"/>
        <c:axId val="48182046"/>
      </c:barChart>
      <c:catAx>
        <c:axId val="66265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82046"/>
        <c:crosses val="autoZero"/>
        <c:auto val="1"/>
        <c:lblAlgn val="ctr"/>
        <c:lblOffset val="100"/>
        <c:noMultiLvlLbl val="0"/>
      </c:catAx>
      <c:valAx>
        <c:axId val="48182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65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E37-5ABA-49A9-BBDE-EDA4928F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EBF-A0C2-4B68-B1F6-9A0CA845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0C4-3099-4ED9-8B48-6E3E655E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7DB-B89C-4B7B-9773-A08C079E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F40-43EC-4B8A-89F2-FEED635F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9BF-F358-4C79-8E6B-DF981D11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5F2-CC95-4260-9650-20FC8682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417-604B-4887-B048-D9B5D5CA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484-D054-496E-B217-E0CC15B3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D60-0F21-49C9-80EE-0ADFAFB0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04D-BB4C-4167-9997-B830911B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DCB-A4E4-4F0B-A0A3-E1B74C59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42C75-D996-41BB-96FF-27CCD60C9B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