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64400"/>
        <c:axId val="25189922"/>
      </c:barChart>
      <c:catAx>
        <c:axId val="95264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9922"/>
        <c:crosses val="autoZero"/>
        <c:auto val="1"/>
        <c:lblAlgn val="ctr"/>
        <c:lblOffset val="100"/>
        <c:noMultiLvlLbl val="0"/>
      </c:catAx>
      <c:valAx>
        <c:axId val="25189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4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014-9765-4D48-BC39-A235CC2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B24-1BFD-4F72-A5B3-DA389B5A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87A-F214-41FF-AEB3-7C0D5E68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EDD-0CE7-40EE-95DD-FF2892A4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F10-4BD8-48EA-8450-78C5F12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91C-BC5F-46ED-84DD-1D63AD6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E31-47F6-4C9E-8CDD-97DE2C1C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2AC-C905-4332-923F-35E48101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BE-415C-499D-8E9C-C1422104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F91-58FE-436C-A23F-86DE80E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5E8-C2ED-469B-BC58-50B8617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65E-33D0-47B3-A1EC-B5F695E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6A57-C453-4488-B27F-1B0A4C658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