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63684"/>
        <c:axId val="17136853"/>
      </c:barChart>
      <c:catAx>
        <c:axId val="37863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36853"/>
        <c:crosses val="autoZero"/>
        <c:auto val="1"/>
        <c:lblAlgn val="ctr"/>
        <c:lblOffset val="100"/>
        <c:noMultiLvlLbl val="0"/>
      </c:catAx>
      <c:valAx>
        <c:axId val="17136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3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262-EDEE-4BF4-8807-D671A79D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21A-5130-41FB-99EF-F88E22DF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059-8648-445D-9BC4-FC464FA4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325-5B61-440F-9640-6F7D6798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1CD-D08B-47DB-A4D2-6E08C2D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77D-70C5-4BE2-B9EC-52A7CC69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67F-E970-4ED9-80E4-93F02AD6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13C-8B5F-4F35-864E-179B6C2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B52-96EA-4863-8B79-F6CCFB1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3B1-089B-43B7-9EAE-235553B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6DD-65FB-45BC-BE25-659FC13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503-0370-4398-BBD8-B11BCBB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21DC8-F305-4366-9958-E3F2271DF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