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66592"/>
        <c:axId val="29513143"/>
      </c:barChart>
      <c:catAx>
        <c:axId val="41665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513143"/>
        <c:crosses val="autoZero"/>
        <c:auto val="1"/>
        <c:lblAlgn val="ctr"/>
        <c:lblOffset val="100"/>
        <c:noMultiLvlLbl val="0"/>
      </c:catAx>
      <c:valAx>
        <c:axId val="295131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665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22C4-B327-40FC-BF17-56F7979FA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46E2-9095-4C42-A82E-F0DCA9AA3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F5D8-E53C-467D-BA4E-B76C67B06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258F-6A68-47D0-9FFA-2A9334B1C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05EB-30B5-4218-A12E-4DE8CF642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DE89-2907-4857-BFC4-7D6A5AD8F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2DBA-9C4D-4B0B-9D8E-F55C88292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FF68-E3FF-4DFA-A237-F67BB471A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82DE-1AC2-4C05-8DBB-FDA819631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6C92-AED4-4679-B3C7-FB6E939E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4DE3-C192-46A2-8420-E4F8897D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DDA2-4FB2-4ADF-A2CC-86C0C6483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3F462B-6286-4465-91F1-DEA2B15BAB3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