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673054"/>
        <c:axId val="3199069"/>
      </c:barChart>
      <c:catAx>
        <c:axId val="596730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99069"/>
        <c:crosses val="autoZero"/>
        <c:auto val="1"/>
        <c:lblAlgn val="ctr"/>
        <c:lblOffset val="100"/>
        <c:noMultiLvlLbl val="0"/>
      </c:catAx>
      <c:valAx>
        <c:axId val="31990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6730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98F4-4210-4F6D-AF5A-4018B8C4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3AF-BC97-4519-A932-CE2EA78D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D66-A557-420D-B3DB-02218144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569F-E8BC-4E4D-9BD1-637A5CD3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2BF9-5067-45E8-B426-CBC890F2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545A-DF54-4286-9DB5-DAC3163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6BA-B4A3-4A6A-A4D9-CA270EE1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A0C-950C-4E63-8DF9-94168DBB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62AC-A847-4D51-A269-544E4851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0AFC-FF60-4B1B-A2C1-EFB08A24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544D-E44B-43F2-ACB1-1D860C03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02D-7FF1-48EE-89A2-7D6B0BC6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1A69F-0C9E-4643-83CD-4E75CEBED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