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533683"/>
        <c:axId val="61747908"/>
      </c:barChart>
      <c:catAx>
        <c:axId val="71533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47908"/>
        <c:crosses val="autoZero"/>
        <c:auto val="1"/>
        <c:lblAlgn val="ctr"/>
        <c:lblOffset val="100"/>
        <c:noMultiLvlLbl val="0"/>
      </c:catAx>
      <c:valAx>
        <c:axId val="61747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33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3B8-85DD-47D4-8AA6-747D30C9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AC6-8985-462A-A684-8645B25B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7A5-55F5-4E20-AA7A-A4DDD8A2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A421-8B29-403E-A30A-CAFBC0EF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C201-457F-4330-BDE4-9596216A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4A03-3E9B-4D1A-AAAC-E68699BB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A8A4-C4C0-4884-A766-FD83B5D9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2FA-CB40-46EF-99BD-7929DF39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2A7D-A225-4C43-852E-CB4F7FD1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1CF2-BE11-441A-BAC6-5CC43DBA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8565-B794-4EE4-B4A9-D97A03B7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CBE-D323-42C6-9FED-5B37AA12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1ECEF-08AD-4570-8781-18E5A390FE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