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45860"/>
        <c:axId val="26298093"/>
      </c:barChart>
      <c:catAx>
        <c:axId val="74545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8093"/>
        <c:crosses val="autoZero"/>
        <c:auto val="1"/>
        <c:lblAlgn val="ctr"/>
        <c:lblOffset val="100"/>
        <c:noMultiLvlLbl val="0"/>
      </c:catAx>
      <c:valAx>
        <c:axId val="26298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5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12C-E85A-46EF-84AA-E7BB4454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B88-16E0-4CBF-B763-F393A225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27E-0F8C-49E6-9029-E399355C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C16-91DE-4D12-A741-EB4FF6AE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595-4C6F-4C27-8A45-052057B9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303-86EB-4164-8ECD-4EAAE4D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834-097C-40B9-BF3C-24B52FEA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941-C410-480B-A7E0-3D88973B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EA8-6880-40D2-842D-7920A0F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61B-D2B3-400B-B0E7-B50AA74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8CB-402F-46B1-ADF9-6D69AED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F0A-4A01-4063-84AE-0806CC8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DFBA2-51D7-4D6F-957F-51A798FD43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