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91164"/>
        <c:axId val="13990911"/>
      </c:barChart>
      <c:catAx>
        <c:axId val="15191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90911"/>
        <c:crosses val="autoZero"/>
        <c:auto val="1"/>
        <c:lblAlgn val="ctr"/>
        <c:lblOffset val="100"/>
        <c:noMultiLvlLbl val="0"/>
      </c:catAx>
      <c:valAx>
        <c:axId val="139909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91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500-9324-4E54-9CA0-657B22EF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E521-9895-415D-B383-C8DF6995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5A1-054E-4B2D-A582-770014F3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E9D2-52BA-4AC0-81D9-E346D74F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7ED0-FB81-4182-8658-7F6D6704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485D-C4FA-4977-BF7C-EFC242A6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E11F-A813-4BF2-BDC7-A0FCE6DB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E2C-2DA3-4059-812B-BD753058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F78-37C6-4ACA-A3A5-A65ABF87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9824-7B66-4EC7-B139-BAF7315E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B61-0958-4B8B-A180-2FF44B80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AE2C-E47D-4699-A13D-4A3E9064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C87E0-2418-4F3A-9F11-67E3CA2CC6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