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27760"/>
        <c:axId val="192362"/>
      </c:barChart>
      <c:catAx>
        <c:axId val="74727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362"/>
        <c:crosses val="autoZero"/>
        <c:auto val="1"/>
        <c:lblAlgn val="ctr"/>
        <c:lblOffset val="100"/>
        <c:noMultiLvlLbl val="0"/>
      </c:catAx>
      <c:valAx>
        <c:axId val="1923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27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38F-3D67-40D1-8C25-AE7021CF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F930-C4EE-4876-BF66-B216C1D6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3D2-3C3A-49BE-BA94-CA5C2A5E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FD56-83D4-408F-A7CE-80D556CB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481-B88B-4F5F-8B99-EB8F82E5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D7CD-C123-45B8-BB37-7E5B1BBC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FEB-0E74-4D6A-8ED1-D612022D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DBC-26DB-4407-8928-7ACE77AF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CB6-FF2A-4EE0-B2D1-24125A91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35DB-2250-47A4-AED0-A77DF704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DC5-0D89-457E-BF73-C22E8AB9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A2B-1AB9-40A7-911D-E42C2A29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7BC1B-3606-4CBD-B25B-98EDC66B0D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